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88743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6080" y="3948840"/>
            <a:ext cx="88743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08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60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36680" y="1374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7280" y="1374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6080" y="3948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36680" y="3948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7280" y="3948840"/>
            <a:ext cx="285732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6080" y="1374840"/>
            <a:ext cx="887436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88743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36080" y="285840"/>
            <a:ext cx="811548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608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0" y="3948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08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374840"/>
            <a:ext cx="43304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6080" y="3948840"/>
            <a:ext cx="88743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822240"/>
          </a:xfrm>
          <a:prstGeom prst="rect">
            <a:avLst/>
          </a:prstGeom>
          <a:solidFill>
            <a:srgbClr val="5457e4"/>
          </a:solidFill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080" y="1374840"/>
            <a:ext cx="88743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675"/>
              </a:spcBef>
              <a:spcAft>
                <a:spcPts val="675"/>
              </a:spcAft>
              <a:buClr>
                <a:srgbClr val="5457e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18576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8280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0184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30184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301840" indent="-228600">
              <a:spcBef>
                <a:spcPts val="675"/>
              </a:spcBef>
              <a:spcAft>
                <a:spcPts val="675"/>
              </a:spcAft>
              <a:buClr>
                <a:srgbClr val="5b4e3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7"/>
          <p:cNvSpPr/>
          <p:nvPr/>
        </p:nvSpPr>
        <p:spPr>
          <a:xfrm>
            <a:off x="0" y="6031080"/>
            <a:ext cx="91440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Text Box 103"/>
          <p:cNvSpPr/>
          <p:nvPr/>
        </p:nvSpPr>
        <p:spPr>
          <a:xfrm>
            <a:off x="7829640" y="6400800"/>
            <a:ext cx="84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080" y="285840"/>
            <a:ext cx="8115480" cy="459720"/>
          </a:xfrm>
          <a:prstGeom prst="rect">
            <a:avLst/>
          </a:prstGeom>
          <a:solidFill>
            <a:srgbClr val="5457e4"/>
          </a:solidFill>
          <a:ln w="0">
            <a:noFill/>
          </a:ln>
        </p:spPr>
        <p:txBody>
          <a:bodyPr lIns="90000" rIns="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 Narrow"/>
              </a:rPr>
              <a:t>Choice model exampl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956720" y="5987880"/>
            <a:ext cx="914400" cy="628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6560" y="981000"/>
            <a:ext cx="7201080" cy="5567400"/>
          </a:xfrm>
          <a:prstGeom prst="rect">
            <a:avLst/>
          </a:prstGeom>
          <a:ln w="9360">
            <a:solidFill>
              <a:srgbClr val="5b4e36"/>
            </a:solidFill>
            <a:miter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6T15:33:12Z</dcterms:created>
  <dc:creator/>
  <dc:description/>
  <dc:language>en-US</dc:language>
  <cp:lastModifiedBy>Scott</cp:lastModifiedBy>
  <cp:lastPrinted>2000-10-25T03:32:35Z</cp:lastPrinted>
  <dcterms:modified xsi:type="dcterms:W3CDTF">2010-07-22T12:13:04Z</dcterms:modified>
  <cp:revision>2165</cp:revision>
  <dc:subject/>
  <dc:title>Volume forecasting from concept tests</dc:title>
</cp:coreProperties>
</file>