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66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72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60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66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72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6080" y="285840"/>
            <a:ext cx="811548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576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8280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7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Text Box 103"/>
          <p:cNvSpPr/>
          <p:nvPr/>
        </p:nvSpPr>
        <p:spPr>
          <a:xfrm>
            <a:off x="7829640" y="6400800"/>
            <a:ext cx="84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Copy test example (i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rcRect l="21656" t="30687" r="27431" b="13890"/>
          <a:stretch/>
        </p:blipFill>
        <p:spPr>
          <a:xfrm>
            <a:off x="901800" y="1197000"/>
            <a:ext cx="6983280" cy="475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35480" y="646920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Verdana"/>
              </a:rPr>
              <a:t>Source:  http://www.mm4xl.com/copytest/</a:t>
            </a:r>
            <a:endParaRPr b="1" lang="en-US" sz="8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Copy test example (ii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181" t="7168" r="47374" b="36557"/>
          <a:stretch/>
        </p:blipFill>
        <p:spPr>
          <a:xfrm>
            <a:off x="900000" y="1125360"/>
            <a:ext cx="7056720" cy="482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5480" y="646920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Verdana"/>
              </a:rPr>
              <a:t>Source:  http://www.mm4xl.com/copytest/</a:t>
            </a:r>
            <a:endParaRPr b="1" lang="en-US" sz="8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33:12Z</dcterms:created>
  <dc:creator/>
  <dc:description/>
  <dc:language>en-US</dc:language>
  <cp:lastModifiedBy>Scott</cp:lastModifiedBy>
  <cp:lastPrinted>2000-10-25T03:32:35Z</cp:lastPrinted>
  <dcterms:modified xsi:type="dcterms:W3CDTF">2010-07-30T00:30:07Z</dcterms:modified>
  <cp:revision>2177</cp:revision>
  <dc:subject/>
  <dc:title>Capability presentation</dc:title>
</cp:coreProperties>
</file>