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66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72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60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66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72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6080" y="285840"/>
            <a:ext cx="811548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8576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8280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7"/>
          <p:cNvSpPr/>
          <p:nvPr/>
        </p:nvSpPr>
        <p:spPr>
          <a:xfrm>
            <a:off x="0" y="603108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Text Box 103"/>
          <p:cNvSpPr/>
          <p:nvPr/>
        </p:nvSpPr>
        <p:spPr>
          <a:xfrm>
            <a:off x="7829640" y="6400800"/>
            <a:ext cx="84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TUR(F) example (i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403280" y="1916280"/>
          <a:ext cx="5976720" cy="3593520"/>
        </p:xfrm>
        <a:graphic>
          <a:graphicData uri="http://schemas.openxmlformats.org/drawingml/2006/table">
            <a:tbl>
              <a:tblPr/>
              <a:tblGrid>
                <a:gridCol w="3243600"/>
                <a:gridCol w="2733120"/>
              </a:tblGrid>
              <a:tr h="753120">
                <a:tc>
                  <a:txBody>
                    <a:bodyPr lIns="90000" rIns="36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nts offered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ctr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36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Additional) Reach Achieved 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ctr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479160">
                <a:tc>
                  <a:txBody>
                    <a:bodyPr lIns="90000" rIns="36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Variant A alone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  <a:tc>
                  <a:txBody>
                    <a:bodyPr lIns="90000" rIns="36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</a:tr>
              <a:tr h="393840">
                <a:tc>
                  <a:txBody>
                    <a:bodyPr lIns="90000" rIns="36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Variants A, C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  <a:tc>
                  <a:txBody>
                    <a:bodyPr lIns="90000" rIns="36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</a:tr>
              <a:tr h="393120">
                <a:tc>
                  <a:txBody>
                    <a:bodyPr lIns="90000" rIns="36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Variants A, C, F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  <a:tc>
                  <a:txBody>
                    <a:bodyPr lIns="90000" rIns="36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</a:tr>
              <a:tr h="393840">
                <a:tc>
                  <a:txBody>
                    <a:bodyPr lIns="90000" rIns="36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Variants A, C, F, B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  <a:tc>
                  <a:txBody>
                    <a:bodyPr lIns="90000" rIns="36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36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Variants A, C, F, B, H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  <a:tc>
                  <a:txBody>
                    <a:bodyPr lIns="90000" rIns="36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</a:tr>
              <a:tr h="393840">
                <a:tc>
                  <a:txBody>
                    <a:bodyPr lIns="90000" rIns="36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Variants A, C, F, B, H, K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  <a:tc>
                  <a:txBody>
                    <a:bodyPr lIns="90000" rIns="36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</a:tr>
              <a:tr h="393120">
                <a:tc>
                  <a:txBody>
                    <a:bodyPr lIns="90000" rIns="36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Variants A, C, F, B, H, K, G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  <a:tc>
                  <a:txBody>
                    <a:bodyPr lIns="90000" rIns="36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4e36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Verdana"/>
                      </a:endParaRPr>
                    </a:p>
                  </a:txBody>
                  <a:tcPr anchor="b" marL="900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TUR(F) example (ii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1108080"/>
          <a:ext cx="7880400" cy="557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08080"/>
                    <a:ext cx="788040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5:33:12Z</dcterms:created>
  <dc:creator/>
  <dc:description/>
  <dc:language>en-US</dc:language>
  <cp:lastModifiedBy>Scott MacLean</cp:lastModifiedBy>
  <cp:lastPrinted>2000-10-25T03:32:35Z</cp:lastPrinted>
  <dcterms:modified xsi:type="dcterms:W3CDTF">2010-08-22T23:57:57Z</dcterms:modified>
  <cp:revision>2176</cp:revision>
  <dc:subject/>
  <dc:title>Capability presentation</dc:title>
</cp:coreProperties>
</file>